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CFF-5E43-4C4D-8256-13B84FEA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7BD-5185-457F-ABE7-BF936907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785-919D-4BCD-806D-540F7BE1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382-6257-4EE9-A4BE-DB709749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992-0BF5-4D13-A5C3-939E6E3A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05E-CE2E-4FC5-A2D0-2B14FCB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02A-4A43-4465-A8AC-F423A2E1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B30-C398-4346-9540-8E8AEB20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492-81C3-42AF-87D2-9C6EEE9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147-F9DC-4278-93A8-FB80703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B34-9DA5-43C3-9061-1397206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B89-6AD8-4337-A2B4-B53C8A6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290-E2C6-4968-A4CC-509267725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74680" y="334800"/>
            <a:ext cx="86612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АСЧЕТ ЭНТРОП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ТОЧНИКОВ ДИСКРЕТНЫХ СООБЩ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62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ИДС БЕЗ ПАМЯТИ С РАВНОВЕРОЯТНЫМ ПОЯВЛЕНИЯ СИМВОЛ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9280" y="3068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ДС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486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ДС С ПАМЯ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вновероятным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68360" y="1987920"/>
            <a:ext cx="78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как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(х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р(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….р(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1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о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гда энтропия такого источ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)=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i="1" lang="ru-RU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[Бит/символ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3"/>
          <p:cNvSpPr/>
          <p:nvPr/>
        </p:nvSpPr>
        <p:spPr>
          <a:xfrm>
            <a:off x="1908000" y="5229360"/>
            <a:ext cx="59040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547640" y="1196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n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+n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+…+n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1332000" y="2348640"/>
            <a:ext cx="5833440" cy="1179360"/>
            <a:chOff x="1332000" y="2348640"/>
            <a:chExt cx="5833440" cy="1179360"/>
          </a:xfrm>
        </p:grpSpPr>
        <p:grpSp>
          <p:nvGrpSpPr>
            <p:cNvPr id="136" name="Group 15"/>
            <p:cNvGrpSpPr/>
            <p:nvPr/>
          </p:nvGrpSpPr>
          <p:grpSpPr>
            <a:xfrm>
              <a:off x="1620720" y="2348640"/>
              <a:ext cx="5544720" cy="1179360"/>
              <a:chOff x="1620720" y="2348640"/>
              <a:chExt cx="5544720" cy="117936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1620720" y="2348640"/>
                <a:ext cx="55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+…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2341080" y="2925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3998520" y="3068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Rectangle 14"/>
            <p:cNvSpPr/>
            <p:nvPr/>
          </p:nvSpPr>
          <p:spPr>
            <a:xfrm>
              <a:off x="1332000" y="263664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7"/>
          <p:cNvSpPr/>
          <p:nvPr/>
        </p:nvSpPr>
        <p:spPr>
          <a:xfrm>
            <a:off x="1534320" y="186516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ее количество информации на симво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19"/>
          <p:cNvGraphicFramePr/>
          <p:nvPr/>
        </p:nvGraphicFramePr>
        <p:xfrm>
          <a:off x="1979640" y="4365720"/>
          <a:ext cx="573876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365720"/>
                    <a:ext cx="57387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8"/>
          <p:cNvGraphicFramePr/>
          <p:nvPr/>
        </p:nvGraphicFramePr>
        <p:xfrm>
          <a:off x="1971720" y="5229360"/>
          <a:ext cx="5272200" cy="109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5229360"/>
                    <a:ext cx="5272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20"/>
          <p:cNvSpPr/>
          <p:nvPr/>
        </p:nvSpPr>
        <p:spPr>
          <a:xfrm>
            <a:off x="605160" y="3476880"/>
            <a:ext cx="85402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частота появления символа,  то есть вероятно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(х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с памя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6"/>
          <p:cNvGraphicFramePr/>
          <p:nvPr/>
        </p:nvGraphicFramePr>
        <p:xfrm>
          <a:off x="0" y="1268280"/>
          <a:ext cx="885672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56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1"/>
          <p:cNvGraphicFramePr/>
          <p:nvPr/>
        </p:nvGraphicFramePr>
        <p:xfrm>
          <a:off x="1376280" y="961920"/>
          <a:ext cx="66675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961920"/>
                    <a:ext cx="66675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2"/>
          <p:cNvSpPr/>
          <p:nvPr/>
        </p:nvSpPr>
        <p:spPr>
          <a:xfrm>
            <a:off x="67680" y="61560"/>
            <a:ext cx="90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имость величины энтропии от вероят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явления символов в сообщ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832760" y="-720"/>
            <a:ext cx="57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свойства энтропи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080" y="1073880"/>
            <a:ext cx="6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0" y="22759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0" y="328392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Энтропия аддити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8"/>
          <p:cNvGraphicFramePr/>
          <p:nvPr/>
        </p:nvGraphicFramePr>
        <p:xfrm>
          <a:off x="755640" y="1052640"/>
          <a:ext cx="21463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21463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20"/>
          <p:cNvSpPr/>
          <p:nvPr/>
        </p:nvSpPr>
        <p:spPr>
          <a:xfrm>
            <a:off x="684360" y="205992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647240" y="3161520"/>
            <a:ext cx="25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∙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х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189000" y="1579680"/>
          <a:ext cx="87440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579680"/>
                    <a:ext cx="8744040" cy="3747960"/>
                  </a:xfrm>
                  <a:prstGeom prst="rect">
                    <a:avLst/>
                  </a:prstGeom>
                  <a:ln w="3816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Rectangle 12"/>
          <p:cNvSpPr/>
          <p:nvPr/>
        </p:nvSpPr>
        <p:spPr>
          <a:xfrm>
            <a:off x="1052280" y="113760"/>
            <a:ext cx="67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збыточность источника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-396720" y="30675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ическая скор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84200" y="113760"/>
            <a:ext cx="79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изводительность источника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1725480" y="4005360"/>
            <a:ext cx="7418520" cy="1957320"/>
            <a:chOff x="1725480" y="4005360"/>
            <a:chExt cx="7418520" cy="1957320"/>
          </a:xfrm>
        </p:grpSpPr>
        <p:graphicFrame>
          <p:nvGraphicFramePr>
            <p:cNvPr id="204" name="Object 13"/>
            <p:cNvGraphicFramePr/>
            <p:nvPr/>
          </p:nvGraphicFramePr>
          <p:xfrm>
            <a:off x="1725480" y="4005360"/>
            <a:ext cx="2157480" cy="195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5480" y="4005360"/>
                      <a:ext cx="2157480" cy="1957320"/>
                    </a:xfrm>
                    <a:prstGeom prst="rect">
                      <a:avLst/>
                    </a:prstGeom>
                    <a:ln w="381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6" name="Text Box 14"/>
            <p:cNvSpPr/>
            <p:nvPr/>
          </p:nvSpPr>
          <p:spPr>
            <a:xfrm>
              <a:off x="6572160" y="4637160"/>
              <a:ext cx="2571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1476360" y="1413000"/>
            <a:ext cx="5688000" cy="720720"/>
            <a:chOff x="1476360" y="1413000"/>
            <a:chExt cx="5688000" cy="720720"/>
          </a:xfrm>
        </p:grpSpPr>
        <p:graphicFrame>
          <p:nvGraphicFramePr>
            <p:cNvPr id="208" name="Object 16"/>
            <p:cNvGraphicFramePr/>
            <p:nvPr/>
          </p:nvGraphicFramePr>
          <p:xfrm>
            <a:off x="1476360" y="1425960"/>
            <a:ext cx="2996280" cy="70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1425960"/>
                      <a:ext cx="2996280" cy="707760"/>
                    </a:xfrm>
                    <a:prstGeom prst="rect">
                      <a:avLst/>
                    </a:prstGeom>
                    <a:ln w="381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0" name="Text Box 17"/>
            <p:cNvSpPr/>
            <p:nvPr/>
          </p:nvSpPr>
          <p:spPr>
            <a:xfrm>
              <a:off x="4559400" y="1413000"/>
              <a:ext cx="260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187280" y="28994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ΔХ→ 0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→ ∞ выражение примет 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56320" y="11376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источников непрерывных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8"/>
          <p:cNvGraphicFramePr/>
          <p:nvPr/>
        </p:nvGraphicFramePr>
        <p:xfrm>
          <a:off x="684360" y="1773360"/>
          <a:ext cx="750096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50096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5"/>
          <p:cNvGraphicFramePr/>
          <p:nvPr/>
        </p:nvGraphicFramePr>
        <p:xfrm>
          <a:off x="1332000" y="5602320"/>
          <a:ext cx="5249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602320"/>
                    <a:ext cx="5249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29"/>
          <p:cNvGraphicFramePr/>
          <p:nvPr/>
        </p:nvGraphicFramePr>
        <p:xfrm>
          <a:off x="826920" y="3630600"/>
          <a:ext cx="769320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630600"/>
                    <a:ext cx="7693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30"/>
          <p:cNvSpPr/>
          <p:nvPr/>
        </p:nvSpPr>
        <p:spPr>
          <a:xfrm>
            <a:off x="179280" y="5011560"/>
            <a:ext cx="81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динаковом и конечном  значении ΔХ  рассчитывают дифференциальную  энтропию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0" y="980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∙ ΔХ – вероятность появления отсч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-968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№2. Источники сообщений. Основы цифровой обработки непрерывных сигна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1. Источники дискретных и непрерывных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09520" y="220176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сточники сообщений, их классифика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нформационные характеристики источников сообщ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1"/>
          <p:cNvSpPr/>
          <p:nvPr/>
        </p:nvSpPr>
        <p:spPr>
          <a:xfrm>
            <a:off x="0" y="981000"/>
            <a:ext cx="2484360" cy="345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3"/>
          <p:cNvGrpSpPr/>
          <p:nvPr/>
        </p:nvGrpSpPr>
        <p:grpSpPr>
          <a:xfrm>
            <a:off x="201600" y="2335320"/>
            <a:ext cx="8541360" cy="966240"/>
            <a:chOff x="201600" y="2335320"/>
            <a:chExt cx="8541360" cy="966240"/>
          </a:xfrm>
        </p:grpSpPr>
        <p:sp>
          <p:nvSpPr>
            <p:cNvPr id="47" name="Text Box 44"/>
            <p:cNvSpPr/>
            <p:nvPr/>
          </p:nvSpPr>
          <p:spPr>
            <a:xfrm flipH="1">
              <a:off x="201600" y="2559240"/>
              <a:ext cx="844560" cy="5205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5"/>
            <p:cNvSpPr/>
            <p:nvPr/>
          </p:nvSpPr>
          <p:spPr>
            <a:xfrm>
              <a:off x="1325160" y="2354400"/>
              <a:ext cx="1067760" cy="9471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О/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46"/>
            <p:cNvSpPr/>
            <p:nvPr/>
          </p:nvSpPr>
          <p:spPr>
            <a:xfrm>
              <a:off x="6658920" y="2335320"/>
              <a:ext cx="1067760" cy="9471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/С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47"/>
            <p:cNvSpPr/>
            <p:nvPr/>
          </p:nvSpPr>
          <p:spPr>
            <a:xfrm>
              <a:off x="2679840" y="2544840"/>
              <a:ext cx="1033200" cy="52056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48"/>
            <p:cNvSpPr/>
            <p:nvPr/>
          </p:nvSpPr>
          <p:spPr>
            <a:xfrm>
              <a:off x="5320080" y="2544840"/>
              <a:ext cx="1008360" cy="52056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49"/>
            <p:cNvSpPr/>
            <p:nvPr/>
          </p:nvSpPr>
          <p:spPr>
            <a:xfrm>
              <a:off x="8030520" y="2544840"/>
              <a:ext cx="712440" cy="5205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50"/>
            <p:cNvSpPr/>
            <p:nvPr/>
          </p:nvSpPr>
          <p:spPr>
            <a:xfrm>
              <a:off x="4010760" y="2544840"/>
              <a:ext cx="988560" cy="520560"/>
            </a:xfrm>
            <a:prstGeom prst="rect">
              <a:avLst/>
            </a:prstGeom>
            <a:solidFill>
              <a:srgbClr val="66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С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1"/>
            <p:cNvSpPr/>
            <p:nvPr/>
          </p:nvSpPr>
          <p:spPr>
            <a:xfrm>
              <a:off x="1052640" y="28386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2"/>
            <p:cNvSpPr/>
            <p:nvPr/>
          </p:nvSpPr>
          <p:spPr>
            <a:xfrm>
              <a:off x="2392200" y="28512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3"/>
            <p:cNvSpPr/>
            <p:nvPr/>
          </p:nvSpPr>
          <p:spPr>
            <a:xfrm>
              <a:off x="3687840" y="28386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54"/>
            <p:cNvSpPr/>
            <p:nvPr/>
          </p:nvSpPr>
          <p:spPr>
            <a:xfrm>
              <a:off x="5021280" y="28386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5"/>
            <p:cNvSpPr/>
            <p:nvPr/>
          </p:nvSpPr>
          <p:spPr>
            <a:xfrm>
              <a:off x="6335640" y="28512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56"/>
            <p:cNvSpPr/>
            <p:nvPr/>
          </p:nvSpPr>
          <p:spPr>
            <a:xfrm>
              <a:off x="7726320" y="2863800"/>
              <a:ext cx="27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AutoShape 100">
            <a:hlinkClick r:id="" action="ppaction://hlinkshowjump?jump=firstslide"/>
          </p:cNvPr>
          <p:cNvSpPr/>
          <p:nvPr/>
        </p:nvSpPr>
        <p:spPr>
          <a:xfrm>
            <a:off x="0" y="0"/>
            <a:ext cx="9144000" cy="57168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45287" h="21600">
                <a:moveTo>
                  <a:pt x="0" y="0"/>
                </a:moveTo>
                <a:lnTo>
                  <a:pt x="345287" y="0"/>
                </a:lnTo>
                <a:lnTo>
                  <a:pt x="345287" y="21600"/>
                </a:lnTo>
                <a:lnTo>
                  <a:pt x="0" y="21600"/>
                </a:lnTo>
                <a:close/>
              </a:path>
              <a:path fill="lightenLess" w="345287" h="21600">
                <a:moveTo>
                  <a:pt x="0" y="0"/>
                </a:moveTo>
                <a:lnTo>
                  <a:pt x="345287" y="0"/>
                </a:lnTo>
                <a:lnTo>
                  <a:pt x="343887" y="1400"/>
                </a:lnTo>
                <a:lnTo>
                  <a:pt x="1400" y="1400"/>
                </a:lnTo>
                <a:close/>
              </a:path>
              <a:path fill="darken" w="345287" h="21600">
                <a:moveTo>
                  <a:pt x="345287" y="0"/>
                </a:moveTo>
                <a:lnTo>
                  <a:pt x="345287" y="21600"/>
                </a:lnTo>
                <a:lnTo>
                  <a:pt x="343887" y="20200"/>
                </a:lnTo>
                <a:lnTo>
                  <a:pt x="343887" y="1400"/>
                </a:lnTo>
                <a:close/>
              </a:path>
              <a:path fill="darkenLess" w="345287" h="21600">
                <a:moveTo>
                  <a:pt x="345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87" y="20200"/>
                </a:lnTo>
                <a:close/>
              </a:path>
              <a:path fill="lighten" w="345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ТРУКТУРНАЯ СХЕМА СИСТЕМЫ СВЯЗ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1"/>
          <p:cNvSpPr/>
          <p:nvPr/>
        </p:nvSpPr>
        <p:spPr>
          <a:xfrm>
            <a:off x="2556000" y="285264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2"/>
          <p:cNvSpPr/>
          <p:nvPr/>
        </p:nvSpPr>
        <p:spPr>
          <a:xfrm>
            <a:off x="6516720" y="285264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3"/>
          <p:cNvSpPr/>
          <p:nvPr/>
        </p:nvSpPr>
        <p:spPr>
          <a:xfrm>
            <a:off x="2556000" y="436572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"/>
          <p:cNvSpPr/>
          <p:nvPr/>
        </p:nvSpPr>
        <p:spPr>
          <a:xfrm>
            <a:off x="3260160" y="368604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НАЛ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2000160" y="380880"/>
            <a:ext cx="5257800" cy="628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5276880" y="1695600"/>
            <a:ext cx="3352680" cy="609480"/>
          </a:xfrm>
          <a:prstGeom prst="wedgeRectCallout">
            <a:avLst>
              <a:gd name="adj1" fmla="val -62500"/>
              <a:gd name="adj2" fmla="val -150523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кр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99960" y="1684440"/>
            <a:ext cx="3353040" cy="590400"/>
          </a:xfrm>
          <a:prstGeom prst="wedgeRectCallout">
            <a:avLst>
              <a:gd name="adj1" fmla="val 62736"/>
              <a:gd name="adj2" fmla="val -153763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еры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/>
          <p:cNvSpPr/>
          <p:nvPr/>
        </p:nvSpPr>
        <p:spPr>
          <a:xfrm rot="10800000">
            <a:off x="394920" y="3644640"/>
            <a:ext cx="3095640" cy="609480"/>
          </a:xfrm>
          <a:prstGeom prst="wedgeRectCallout">
            <a:avLst>
              <a:gd name="adj1" fmla="val -116976"/>
              <a:gd name="adj2" fmla="val 2723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68360" y="37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амя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9"/>
          <p:cNvSpPr/>
          <p:nvPr/>
        </p:nvSpPr>
        <p:spPr>
          <a:xfrm rot="10800000">
            <a:off x="323640" y="5229000"/>
            <a:ext cx="3095640" cy="609480"/>
          </a:xfrm>
          <a:prstGeom prst="wedgeRectCallout">
            <a:avLst>
              <a:gd name="adj1" fmla="val -143027"/>
              <a:gd name="adj2" fmla="val 5257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95280" y="5300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амя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2"/>
          <p:cNvSpPr/>
          <p:nvPr/>
        </p:nvSpPr>
        <p:spPr>
          <a:xfrm>
            <a:off x="4643280" y="3860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572000" y="544500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5219640" y="3500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а, битва, бриг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5364000" y="508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зо, батиав, дбиаг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9560" y="234936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Информационные характеристики источников сооб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131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стулаты теории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1527480"/>
            <a:ext cx="9036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и – велич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дитивна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количество информации, содержащееся в нескольких сообщениях равно сумме объемов информации в каждом из них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(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 х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) = I(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) + I(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Чем вероятнее событие, тем меньше информации получают в сообщении о его реализации. Количество информации, содержащейся в сообщении, вероятность реализации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=1, равно ну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и – величина всегда положительная и не зависит от степени важности и эмо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476280" y="3645000"/>
          <a:ext cx="83343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645000"/>
                    <a:ext cx="8334360" cy="124452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Rectangle 27"/>
          <p:cNvSpPr/>
          <p:nvPr/>
        </p:nvSpPr>
        <p:spPr>
          <a:xfrm>
            <a:off x="0" y="4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личество информации на выходе источника дискретных сообщения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898560" y="981000"/>
            <a:ext cx="2736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2"/>
          <p:cNvSpPr/>
          <p:nvPr/>
        </p:nvSpPr>
        <p:spPr>
          <a:xfrm>
            <a:off x="2411280" y="1413000"/>
            <a:ext cx="289080" cy="649080"/>
          </a:xfrm>
          <a:prstGeom prst="downArrow">
            <a:avLst>
              <a:gd name="adj1" fmla="val 50000"/>
              <a:gd name="adj2" fmla="val 5613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0"/>
          <p:cNvGrpSpPr/>
          <p:nvPr/>
        </p:nvGrpSpPr>
        <p:grpSpPr>
          <a:xfrm>
            <a:off x="1042920" y="1628640"/>
            <a:ext cx="6912000" cy="936720"/>
            <a:chOff x="1042920" y="1628640"/>
            <a:chExt cx="6912000" cy="936720"/>
          </a:xfrm>
        </p:grpSpPr>
        <p:sp>
          <p:nvSpPr>
            <p:cNvPr id="109" name="Rectangle 19"/>
            <p:cNvSpPr/>
            <p:nvPr/>
          </p:nvSpPr>
          <p:spPr>
            <a:xfrm>
              <a:off x="1042920" y="1628640"/>
              <a:ext cx="9144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1"/>
            <p:cNvSpPr/>
            <p:nvPr/>
          </p:nvSpPr>
          <p:spPr>
            <a:xfrm>
              <a:off x="1979640" y="206028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4500720" y="206208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1114560" y="1830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37"/>
            <p:cNvGrpSpPr/>
            <p:nvPr/>
          </p:nvGrpSpPr>
          <p:grpSpPr>
            <a:xfrm>
              <a:off x="3348000" y="1628640"/>
              <a:ext cx="1152720" cy="914400"/>
              <a:chOff x="3348000" y="1628640"/>
              <a:chExt cx="1152720" cy="914400"/>
            </a:xfrm>
          </p:grpSpPr>
          <p:sp>
            <p:nvSpPr>
              <p:cNvPr id="114" name="Rectangle 20"/>
              <p:cNvSpPr/>
              <p:nvPr/>
            </p:nvSpPr>
            <p:spPr>
              <a:xfrm>
                <a:off x="3348000" y="1628640"/>
                <a:ext cx="115272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4"/>
              <p:cNvSpPr/>
              <p:nvPr/>
            </p:nvSpPr>
            <p:spPr>
              <a:xfrm>
                <a:off x="3463920" y="1844640"/>
                <a:ext cx="93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УП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38"/>
            <p:cNvGrpSpPr/>
            <p:nvPr/>
          </p:nvGrpSpPr>
          <p:grpSpPr>
            <a:xfrm>
              <a:off x="4859280" y="1628640"/>
              <a:ext cx="2736720" cy="936720"/>
              <a:chOff x="4859280" y="1628640"/>
              <a:chExt cx="2736720" cy="936720"/>
            </a:xfrm>
          </p:grpSpPr>
          <p:sp>
            <p:nvSpPr>
              <p:cNvPr id="117" name="Rectangle 18"/>
              <p:cNvSpPr/>
              <p:nvPr/>
            </p:nvSpPr>
            <p:spPr>
              <a:xfrm>
                <a:off x="4859280" y="1628640"/>
                <a:ext cx="2736720" cy="936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5"/>
              <p:cNvSpPr/>
              <p:nvPr/>
            </p:nvSpPr>
            <p:spPr>
              <a:xfrm>
                <a:off x="5003640" y="1844640"/>
                <a:ext cx="24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Канал связ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39"/>
            <p:cNvSpPr/>
            <p:nvPr/>
          </p:nvSpPr>
          <p:spPr>
            <a:xfrm>
              <a:off x="7596360" y="206208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39640" y="162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РЕДНЕЕ КОЛИЧЕСТВО ИНФОРМАЦИИ, СОДЕРЖАЩЕЕСЯ  В ОДНОМ СИМВОЛЕ ИСТОЧНИКА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ИЦА ИЗМЕРЕН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И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ИМВО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21-09-16T08:21:19Z</dcterms:modified>
  <cp:revision>32</cp:revision>
  <dc:subject/>
  <dc:title>PowerPoint Presentation</dc:title>
</cp:coreProperties>
</file>